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9.jpeg" ContentType="image/jpeg"/>
  <Override PartName="/ppt/media/image11.png" ContentType="image/png"/>
  <Override PartName="/ppt/media/image36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8.png" ContentType="image/png"/>
  <Override PartName="/ppt/media/image3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2.jpeg" ContentType="image/jpeg"/>
  <Override PartName="/ppt/media/image9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D86-4156-438F-9853-ADDDF41C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B0A-4A17-467D-A567-233E7CF6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042-0096-4FA6-9236-AC3643FF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197-4745-447C-A6B2-A424EA97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86CE-A392-43FF-AA1E-08DFC923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3E16-B8D1-4213-8743-0C0B354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C852-A472-4489-B860-7A4BF0AB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D7CE-FC8F-45C0-83C5-DD6B620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EB7A-F4DC-40C3-AD03-997B6DE8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FF1C-24E4-4A57-BB07-AE691AB3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6A50-7B27-4A38-B8AE-D90C31A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2B2-0BAF-429B-A10F-3318E13D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5EBF-9601-489A-BF80-869A634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AEEE-4696-4578-B7B2-D7606734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62AE-09E4-425E-8594-9DCA84C0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70A9-E971-4807-85A3-0D2A80B9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8CD-288F-4AD6-883F-79EB6213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C49D-81A9-4FF2-A00D-D66EF895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E31C-183C-430D-A8B8-455352E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EB81-A647-4D36-9AAA-C96F65FA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13D0-9BF3-42E0-96A4-956DCC20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12CE-CCE8-4E3C-80EB-24DE4953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C72-6286-42A6-A95C-A7FA831A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DA68-0C50-4E85-ACAC-E4959DBF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BD91-1EB2-490A-91C8-97ECC3D1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1FE4-F777-4113-AC05-BDACD941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BD87-2578-4AEB-9999-501F207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AE93-D54A-460C-B596-DF8FF5D2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1283-7B90-4B72-AB80-E75B713B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B64E-C5AB-4299-AB5D-D34C62E2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76FA-7D45-465E-A54A-18E2CC54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5A06-C738-4E75-BAAC-73240526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8712-EB32-4B8A-8FA0-1B900915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1EC-D99C-4541-8333-73DF0F57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41B7-EE6B-461C-AF0F-27709A9E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1EE7-C583-492B-A580-81A3CCF4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487CB-3687-43E3-B84B-A419EE32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0DCA-950B-40CA-8BD7-B534171C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C6F34-3406-4DEA-B0E0-5E0956CA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A350-65B2-4E64-86BE-24FB5C2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67FA3-39C0-4D84-9245-F76ABAA2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86F9A-D54B-4ADA-93AC-DC9CA639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17FFA-5242-4A87-90D8-64A39A15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96E-0FCA-4990-B88D-EF27198D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FC9-8718-49E2-8AF3-F18A4CF2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C35-3FFD-499D-BB04-18F57409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338-F199-46E6-9FC6-B2926956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44B-41F4-458E-9853-672FAFD9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CD27-31FD-40F5-8A23-1938FD8529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43C4-8EC8-4AC1-8133-DB946B5CE30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1E64-77F1-4FB6-9753-673ED072144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203B-50B2-492F-8FAD-15597EEC152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65040" y="469800"/>
            <a:ext cx="8431200" cy="1219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Александр Грин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«Алые паруса»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Феерия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Глава 1 «Предсказани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Мемориальная доска на набережной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имени Грина, д. 21, г. Киров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35328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Бюст на набережной </a:t>
            </a: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имени Грина в г. Киров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726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Александр Грин </a:t>
            </a: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на почтовой марке Украины, 2005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84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597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Из истории создания произведен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чтами об «ослепительном случае и радости» полны все рассказы Грина, но больше всего – его повесть  «Алые паруса». Эту пленительную и сказочную книгу Грин  обдумывал и начал писать  в Петрограде в 1920 году, когда после сыпняка он бродил по обледенелому городу и искал каждую ночь нового ночлега у случайных, полузнакомых людей. «Алые паруса» –произведение, утверждающее  силу человеческого духа, просвеченное  любовью к жизни и верой в то, что человек способен совершать чудес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1701720" cy="2544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7956720" y="5337000"/>
            <a:ext cx="9712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668600" y="0"/>
            <a:ext cx="556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абота с литературоведческими терминам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Феер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франц. feerie, от fee — фея, волшебница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) Жанр театральных спектаклей, в которых для фантастических сцен применяются постановочные эффекты. Возник в Италии в 17 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) Цирковое представление с использованием различных эффектов. 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) Волшебное, сказочное зрелищ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имво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Слово «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симво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» происходит от греческого слова symbolon, что означает «условный язык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мвол – предмет или слово, условно выражающее суть какого-либо явлен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мвол заключает в себе некую тайну, намек, позволяющий лишь догадываться о том, что имеется в виду, о чем хотел сказать автор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 с текст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1 эпизода «Лонгрен и его маленькая дочь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аткий пересказ данного эпизода по плану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езд Лонгрена домой после служб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тория смерти Мер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сть Лонгрена Меннерс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Любимое развлечение Ассоль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Характеристика героини (ключевые слова)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девочка, маленькое существо, «несмышлёныш, без которого скучно», «доброе личико», «росла без подруг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Лонгрен и Ассоль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62080" y="1484280"/>
            <a:ext cx="3844800" cy="5040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4788000" y="1461960"/>
            <a:ext cx="3848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 с текст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нализ эпизода «Встреча с волшебником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веты на вопрос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гда у Ассоль стали появляться чудесные сны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кую сказку придумала Ассоль про яхту с алыми парусам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кем встретилась девочка в лесу? Найти описание Эг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кой разговор состоялся между ними? (чтение в лицах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 предсказал Эгль Ассоль и почему  именно ей? (выразительное чтение отрывка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Характеристика героин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«стиранное много раз платье, худенькие загорелые ноги, тёмные густые волосы», «каждая черта была выразительна, чиста и легка, как полёт ласточки», «тёмные с оттенком грустного вопроса глаза казались старше лица; его неправильный мягкий овал был овеян того рода прелестным загаром, какой присущ здоровой белизне кожи», «полураскрытый маленький рот блестел кроткой улыбкой»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«Растение, крошка, милая, «имя так странно, так однотонно, музыкально, как свист стрелы или шум морской раковины», «Прекрасная Неизвестность»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«Тут только он (Эгль) уяснил себе, что в лице девочки было так пристально отмечено его впечатлением. «Невольное ожидание прекрасного, блаженной судьбы...», - решил он.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адия выз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прос: были ли в вашей жизни моменты, когда вами владело одно только желание чего-то необычного, прекрасног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ние: прослушайте  песню «Алые парус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исп. Е Осин и ансамбль «ДоМиСольки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улируйте тему урока, используя текст песни и данную иллюстраци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гль и Ассо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539640" y="1359000"/>
            <a:ext cx="3248280" cy="5499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4249800" y="1463760"/>
            <a:ext cx="44924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 с текст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нализ эпизода «Ассоль после встречи с волшебником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веты на вопрос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 отреагировал Лонгрен на рассказ дочери о предсказании волшебника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 чём толковали рыбаки, услышав о предсказании Эгля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ов финал 1 главы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верила ли Ассоль предсказаниям Эгля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ой художественный приём использует автор, показывая  героиню и толпу жителей рыбацкого посёлка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флек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36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вы себе представляете  Ассоль, проанализировав эпизоды данной глав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о отношение автора к героин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признаки феерии вы можете отметить в 1 главе  произведе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Как вы думаете, символом чего могут быть  «алые паруса»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оставление синквей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5705640"/>
          </a:xfrm>
          <a:prstGeom prst="rect">
            <a:avLst/>
          </a:prstGeom>
          <a:ln w="0">
            <a:noFill/>
          </a:ln>
        </p:spPr>
      </p:pic>
      <p:pic>
        <p:nvPicPr>
          <p:cNvPr id="254" name="AudioPoisk.com_Сборовская_песня-Алые_паруса_(audiopoisk.com).mp3" descr=""/>
          <p:cNvPicPr/>
          <p:nvPr/>
        </p:nvPicPr>
        <p:blipFill>
          <a:blip r:embed="rId3"/>
          <a:stretch/>
        </p:blipFill>
        <p:spPr>
          <a:xfrm>
            <a:off x="5867280" y="549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155166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нквей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Мечт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Далёкая, маняща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Надеяться, верить, ждать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ветные мечты сбываютс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часть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3095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6948360" y="4797360"/>
            <a:ext cx="168912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нквей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ус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Алые, загадочны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Манят, радуют, приближаютс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Надо верить в чудес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Любовь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108840" cy="4389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5508720" y="2970360"/>
            <a:ext cx="37227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Ответить на вопрос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вы думаете, сбудется ли мечта Ассол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Прочитать феерию А. Грина «Алые паруса» до кон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Составить рассказ о главных героях произведения: Ассоль и Гре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564000" y="4365720"/>
            <a:ext cx="1822320" cy="2286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1997280" cy="2286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6076800" y="0"/>
            <a:ext cx="30672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8595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C:\Documents and Settings\post4c\Рабочий стол\алые паруса 1\0000055983-177275-8223412-m549x500.jpg"/>
          <p:cNvPicPr/>
          <p:nvPr/>
        </p:nvPicPr>
        <p:blipFill>
          <a:blip r:embed="rId1"/>
          <a:stretch/>
        </p:blipFill>
        <p:spPr>
          <a:xfrm>
            <a:off x="1547640" y="22320"/>
            <a:ext cx="5632560" cy="6835680"/>
          </a:xfrm>
          <a:prstGeom prst="rect">
            <a:avLst/>
          </a:prstGeom>
          <a:ln w="0">
            <a:noFill/>
          </a:ln>
        </p:spPr>
      </p:pic>
      <p:pic>
        <p:nvPicPr>
          <p:cNvPr id="201" name="алые паруса.mp3" descr=""/>
          <p:cNvPicPr/>
          <p:nvPr/>
        </p:nvPicPr>
        <p:blipFill>
          <a:blip r:embed="rId2"/>
          <a:stretch/>
        </p:blipFill>
        <p:spPr>
          <a:xfrm>
            <a:off x="7451640" y="3068640"/>
            <a:ext cx="1197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Тема урока: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Алые паруса – символ надежды…»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(По произведению А.Грина «Алые паруса»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 урок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ться с биографией писател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анализировать главу 1 «Предсказание» из феерии А. Грина «Алые парус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знать значение литературоведческих терминов: феерия, симво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ключевым эпизодам и словам составить характеристику главной героини произвед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7956720" y="115920"/>
            <a:ext cx="104292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Осмысление содержания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17840" cy="479772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4932360" y="1720800"/>
            <a:ext cx="39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bd0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 Грин – писатель солнечный и, несмотря на трудную судьбу, счастливый, потому что через все его произведения победно проходит глубокая и светлая вера в человека, в добрые начала человеческой души, вера в любовь, дружбу, верность и осуществимость мечты… И каждый, прочитавший его, становится чем-то богаче и чищ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етл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43360"/>
            <a:ext cx="77724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68360" y="52056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Имя при рождении: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ександр Степанович Гринев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Дата рождения: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11 (23) августа 1880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Место рождения: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лободской, Вятской губерн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Дата смерти: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8 июля 1932 (51 год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Место смерти: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арый Кры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Род деятельности: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усский писатель, прозаи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5688000" y="2060640"/>
            <a:ext cx="3456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12640" y="-182520"/>
            <a:ext cx="8498160" cy="1798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4716360" y="1739880"/>
            <a:ext cx="4427640" cy="4614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108000" y="1771560"/>
            <a:ext cx="4494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Филиал Дом-Музей А.Грина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(Старый Крым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4610160" cy="471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429000" y="258120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792000" y="165240"/>
            <a:ext cx="8364600" cy="15174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80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4:44:09Z</dcterms:created>
  <dc:creator>Светлана</dc:creator>
  <dc:description/>
  <dc:language>en-US</dc:language>
  <cp:lastModifiedBy>Светлана</cp:lastModifiedBy>
  <dcterms:modified xsi:type="dcterms:W3CDTF">2012-01-26T14:27:44Z</dcterms:modified>
  <cp:revision>141</cp:revision>
  <dc:subject/>
  <dc:title>Слайд 1</dc:title>
</cp:coreProperties>
</file>